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自定义放映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203-B84D-44D6-B432-F2987627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54B-CD92-4F51-B503-1E9692A3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6C8-A11C-4415-9EDB-EAFE073E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86F-27EF-496D-8CFD-777173D1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A19-64E8-4491-BED2-013B79EF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8B7-7BCE-459E-804C-84A0585F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34F-8446-430C-9F4C-C4F4AC4C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398-D7EC-4396-B27C-3628E1E2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3D2-9D86-4854-A417-0CACE5B8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C8F-4077-436F-B7FF-9B25D54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3B0-B353-4AE1-9105-E91C731E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3CF-8168-4CA4-AB8F-AB7A624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36E4-7BD7-4E2B-B74E-BF22FFF83B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5005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给  你  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3932280"/>
            <a:ext cx="53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卿  </a:t>
            </a:r>
            <a:r>
              <a:rPr b="0" lang="zh-CN" sz="5500" spc="-1" strike="noStrike">
                <a:solidFill>
                  <a:srgbClr val="000000"/>
                </a:solidFill>
                <a:latin typeface="华文行楷"/>
                <a:ea typeface="华文行楷"/>
              </a:rPr>
              <a:t>&amp;  </a:t>
            </a:r>
            <a:r>
              <a:rPr b="0" lang="zh-CN" sz="5500" spc="-1" strike="noStrike">
                <a:solidFill>
                  <a:srgbClr val="000000"/>
                </a:solidFill>
                <a:latin typeface="华文行楷"/>
                <a:ea typeface="华文行楷"/>
              </a:rPr>
              <a:t>淑懿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05360"/>
            <a:ext cx="561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她将是你的新娘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她是别人用心托付在你手上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你要用你一生加倍照顾对待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苦或喜都要同享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393192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要处处时时想着念的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b223b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93192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要处处时时想着念的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3333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626920" y="2997000"/>
            <a:ext cx="4249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爱就圆满了几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3499920"/>
            <a:ext cx="576072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他将是你的新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从今以后他就是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                         </a:t>
            </a: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一生的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他的一切都将和你紧密相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福和祸都要同当……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3284640"/>
            <a:ext cx="561636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她将是你的新娘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她是别人用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               </a:t>
            </a: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托付在你手上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你要用你一生加倍照顾对待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10012d"/>
                </a:solidFill>
                <a:latin typeface="华文行楷"/>
                <a:ea typeface="华文行楷"/>
              </a:rPr>
              <a:t>苦或喜都要同享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3069720"/>
            <a:ext cx="6192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328428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要处处时时想着念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                 </a:t>
            </a: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069720"/>
            <a:ext cx="6192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一定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特别的缘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才可以一路走来变成了一家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他多爱你几分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多还他几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</a:t>
            </a:r>
            <a:r>
              <a:rPr b="0" lang="zh-CN" sz="3100" spc="-1" strike="noStrike">
                <a:solidFill>
                  <a:srgbClr val="003300"/>
                </a:solidFill>
                <a:latin typeface="华文行楷"/>
                <a:ea typeface="华文行楷"/>
              </a:rPr>
              <a:t>找幸福的可能…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284280"/>
            <a:ext cx="619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从此不再是一个人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要处处时时想着念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                       </a:t>
            </a: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都是“我们”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你付出了几分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华文行楷"/>
                <a:ea typeface="华文行楷"/>
              </a:rPr>
              <a:t>爱就圆满了几分…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6200" y="3935160"/>
            <a:ext cx="5761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他将是你的新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从今以后他就是你一生的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他的一切都将和你紧密相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80221"/>
                </a:solidFill>
                <a:latin typeface="华文行楷"/>
                <a:ea typeface="华文行楷"/>
              </a:rPr>
              <a:t>福和祸都要同当……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2:52:50Z</dcterms:created>
  <dc:creator>微软用户</dc:creator>
  <dc:description/>
  <dc:language>en-US</dc:language>
  <cp:lastModifiedBy>微软用户</cp:lastModifiedBy>
  <dcterms:modified xsi:type="dcterms:W3CDTF">2013-03-28T09:56:59Z</dcterms:modified>
  <cp:revision>22</cp:revision>
  <dc:subject/>
  <dc:title>幻灯片 1</dc:title>
</cp:coreProperties>
</file>