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788C-49CF-4FD2-A0A8-688E50AD683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936E-CA68-431C-8016-3A907406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A6D2-11C6-4FBE-8A09-1C7135A6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C878-D0B2-449D-BB9C-6341AE84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2064-2DE8-465F-B9E9-E18546E9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2EF6-A7F6-4D27-9961-A0F746B0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38C-EC7E-4C6D-8475-9E2257B2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80C7-7DD4-4283-A6C2-2B9103C9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3B09-7754-41D0-8846-9EC7AE6F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FBC6-1693-451E-B64A-CD7201A4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56F0-338A-421D-84AA-0B0DC370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3179-7589-4898-8754-5E2A31B2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D917-E265-47C6-A5AB-7EC3877A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8BCB-F052-4F01-97DA-CCBF90C167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微软雅黑"/>
              </a:rPr>
              <a:t>特等奖 海南双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微软雅黑"/>
              </a:rPr>
              <a:t>中奖名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 rot="21530400">
            <a:off x="1080" y="867960"/>
            <a:ext cx="3048120" cy="1120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buSzPct val="10286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780960" y="533520"/>
            <a:ext cx="2057400" cy="1295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flipH="1" rot="21531600">
            <a:off x="7086240" y="304560"/>
            <a:ext cx="1676520" cy="53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18:52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