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  <p:custShowLst>
    <p:custShow name="cjZhu" id="0">
      <p:sldLst>
        <p:sld r:id="rId5"/>
      </p:sldLst>
    </p:custShow>
    <p:custShow name="cjJX1" id="1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7630-3773-4797-824D-ADD4453BBC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4CC-D2E6-4F34-B776-9080C9D2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A86-E0AB-4F07-9C92-C18B244E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F13A-51A3-4CEC-AC4B-90DD505B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3F04-DF20-46D8-8BB3-9AD4FB22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5F0C-33A6-4192-9506-AC44866C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893-111C-46F1-BFEA-9FA45840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A1B-5585-4875-A594-7B140C80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CFF-B73A-4DD3-BB94-E36363DC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506-6EF4-4687-BE1C-470546A0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07C4-081A-443C-8E94-CF039595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2EF0-9F70-4893-B7B7-C557C9BD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2C13-9940-4398-99E1-BC412A8C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EF3A-0B36-4B50-8318-B311FE70F5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八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九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2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十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2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905120"/>
            <a:ext cx="7696080" cy="3276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抽奖准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一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2920" y="380880"/>
            <a:ext cx="1600200" cy="10670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flipH="1" rot="21533400">
            <a:off x="0" y="4648320"/>
            <a:ext cx="2133720" cy="712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1481E-006 L 0.75833 -0.65555 E">
                                      <p:cBhvr>
                                        <p:cTn id="9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二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1904760" cy="1752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三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2400120" cy="1790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四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五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六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七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6T04:24:55Z</dcterms:modified>
  <cp:revision>1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