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cjZhu" id="0">
      <p:sldLst>
        <p:sld r:id="rId5"/>
      </p:sldLst>
    </p:custShow>
    <p:custShow name="cjJX1" id="1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A38E-48CA-4BD3-B017-FC7611A2C8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715-ADA6-4D81-96E8-C6A345C9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97D-4F10-4C43-B082-E751B6B2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8CCB-8CC2-4E14-A764-D5B8275F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831-721A-4658-A6AB-0D814063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22EB-F4D6-4712-91F0-B1116075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53F-C4EE-4137-A586-591227BE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8C4-881C-4881-BB9C-D5915F69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4E9-FA83-49D3-AD24-A8CCC2EF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2A5D-A1C6-4C3D-93EF-38FFE56C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4A2-4106-4452-A00D-FB38EFFF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BCE-9046-4804-ABB6-D68DA122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0F4E-B8BD-4C3E-AA54-B11A2132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B684-7A31-45DB-AD94-0B644FF0DF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八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九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十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05120"/>
            <a:ext cx="7696080" cy="3276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抽奖准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一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二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三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五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六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七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4:51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