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14B1B-0143-4DC2-95D4-EC4F01A1B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1D250-5352-48C7-9621-E25F8EBB7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673AD-8A47-4BF9-9CC5-B33459ECB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AF1B3-9209-4ACD-A642-E614F6369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B5600-4720-44A2-8F72-EC09AAA1B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F90E5-A8EB-409D-8541-5EC0694D8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E57D7-DB06-403F-881E-E23AB4D53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D3F05-B426-4B3E-B5C6-2A5E52A79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22655-3B7F-4FEE-8880-7D9357FFF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944E4-EB79-410C-80C6-9C614B194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36DD6-B85D-45A7-B964-6D08E6542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4DDE2-71E7-4646-A6A8-59D146C9F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0000"/>
            </a:gs>
            <a:gs pos="50000">
              <a:srgbClr val="ff0000"/>
            </a:gs>
            <a:gs pos="100000">
              <a:srgbClr val="75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F272C-3A2E-4868-B897-1CF5533C3A7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0000"/>
            </a:gs>
            <a:gs pos="50000">
              <a:srgbClr val="ff0000"/>
            </a:gs>
            <a:gs pos="100000">
              <a:srgbClr val="75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0000"/>
            </a:gs>
            <a:gs pos="50000">
              <a:srgbClr val="ff0000"/>
            </a:gs>
            <a:gs pos="100000">
              <a:srgbClr val="75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3520" y="1600200"/>
            <a:ext cx="7924680" cy="388620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ffff"/>
                </a:solidFill>
                <a:latin typeface="Arial"/>
                <a:ea typeface="微软雅黑"/>
              </a:rPr>
              <a:t>八等奖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ffff"/>
                </a:solidFill>
                <a:latin typeface="Arial"/>
                <a:ea typeface="微软雅黑"/>
              </a:rPr>
              <a:t>中奖名单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0000"/>
            </a:gs>
            <a:gs pos="50000">
              <a:srgbClr val="ff0000"/>
            </a:gs>
            <a:gs pos="100000">
              <a:srgbClr val="75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533520" y="380880"/>
            <a:ext cx="8001000" cy="609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buSzPct val="1028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微软雅黑"/>
              </a:rPr>
              <a:t>张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行易软件 http://www.ExeSoft.cn</cp:lastModifiedBy>
  <dcterms:modified xsi:type="dcterms:W3CDTF">2017-01-09T13:00:59Z</dcterms:modified>
  <cp:revision>2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