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  <p:custShowLst>
    <p:custShow name="cjZhu" id="0">
      <p:sldLst>
        <p:sld r:id="rId5"/>
      </p:sldLst>
    </p:custShow>
    <p:custShow name="cjJX1" id="1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29C6-D5D1-437B-8BBC-67BFB434BA4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A2D-7685-4365-8697-F64E3AAF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FE05-6F76-4CF7-BFE6-1E1E8DB0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D52C-0834-4038-A171-E87A50D3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FB3F-084F-4A1D-AEC5-D5A80783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FEB1-F15E-4A81-8522-DAD7ADD1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A38A-690E-4889-BC27-CCA40ECE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57EF-9577-45A7-A67B-2FE67779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2C8-1C90-43F2-A350-B3F59386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65C8-4554-494C-A004-3E63C27C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B2C-03FF-47C2-A159-20B62EA2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0CE0-C6C0-4561-9BC4-6E9DD6E8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532F-A63A-4C21-B80B-003DC3A9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BF15-1688-449D-813A-360C45052F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八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九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十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905120"/>
            <a:ext cx="7696080" cy="3276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抽奖准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一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二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三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四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五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六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七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4:51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