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自定义放映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678-E6B2-4D10-90D7-A18A0CEF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F0A-6C97-42AF-8F91-4487A34B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695-C175-4B91-8C69-30426528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F82-3E03-4D83-B186-4A785177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3C9-CB90-4D07-B7BD-86BF8F67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FAC-6B9B-4E9D-8BBA-80E9A1FC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D46-C77E-4F58-8323-04913634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A26-1408-49F6-BFE9-D1F75A3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986-691F-45AB-AF85-B44D4AA9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50B-DE8D-4D9C-B0A5-597D46B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732-5F9C-4E39-928C-B5FE7722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CBE-F93E-40AB-80FD-18BB9CA4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D344-6E40-484B-B5AA-ABAA5F5BD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5005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给  你  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3932280"/>
            <a:ext cx="53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卿  </a:t>
            </a: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&amp;  </a:t>
            </a: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淑懿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05360"/>
            <a:ext cx="56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她将是你的新娘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她是别人用心托付在你手上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你要用你一生加倍照顾对待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苦或喜都要同享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393192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要处处时时想着念的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93192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要处处时时想着念的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626920" y="2997000"/>
            <a:ext cx="4249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3499920"/>
            <a:ext cx="576072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他将是你的新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从今以后他就是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一生的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他的一切都将和你紧密相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福和祸都要同当……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3284640"/>
            <a:ext cx="561636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她将是你的新娘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她是别人用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               </a:t>
            </a: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托付在你手上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你要用你一生加倍照顾对待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苦或喜都要同享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3069720"/>
            <a:ext cx="6192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328428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要处处时时想着念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069720"/>
            <a:ext cx="6192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28428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要处处时时想着念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6200" y="3935160"/>
            <a:ext cx="5761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他将是你的新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从今以后他就是你一生的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他的一切都将和你紧密相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福和祸都要同当……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2:52:50Z</dcterms:created>
  <dc:creator>微软用户</dc:creator>
  <dc:description/>
  <dc:language>en-US</dc:language>
  <cp:lastModifiedBy>微软用户</cp:lastModifiedBy>
  <dcterms:modified xsi:type="dcterms:W3CDTF">2013-03-28T09:56:59Z</dcterms:modified>
  <cp:revision>22</cp:revision>
  <dc:subject/>
  <dc:title>幻灯片 1</dc:title>
</cp:coreProperties>
</file>