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5FAE2-3AE1-4EC7-98FA-60B8E5693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F7F68-D9CE-4B9C-8F78-DFB69D71D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3A566-9E30-48E8-8B37-2EA85300C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08751-1553-4776-986F-DBF832723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A95E8-D806-4DF9-96A9-5E5EE25B6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10978-77C2-42D0-A367-C23A6F256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81A05-A01E-4D59-99E1-C7736C2A2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4908A-E52E-4B26-ACF5-BF8A59AB6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FBF9E-14B5-4445-9063-B9B335966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D91BF-9B74-4D15-B0CF-74E55FA53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A4B09-E9BF-4E96-8B62-67E8805A6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DF64C-4326-4B22-A00C-63DDAF063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0000"/>
            </a:gs>
            <a:gs pos="50000">
              <a:srgbClr val="ff0000"/>
            </a:gs>
            <a:gs pos="100000">
              <a:srgbClr val="75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2B1F3-1F4B-42BC-9E12-63471206DB2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0000"/>
            </a:gs>
            <a:gs pos="50000">
              <a:srgbClr val="ff0000"/>
            </a:gs>
            <a:gs pos="100000">
              <a:srgbClr val="75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0000"/>
            </a:gs>
            <a:gs pos="50000">
              <a:srgbClr val="ff0000"/>
            </a:gs>
            <a:gs pos="100000">
              <a:srgbClr val="75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3520" y="1600200"/>
            <a:ext cx="7924680" cy="388620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ffff"/>
                </a:solidFill>
                <a:latin typeface="Arial"/>
                <a:ea typeface="微软雅黑"/>
              </a:rPr>
              <a:t>九等奖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ffff"/>
                </a:solidFill>
                <a:latin typeface="Arial"/>
                <a:ea typeface="微软雅黑"/>
              </a:rPr>
              <a:t>中奖名单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0000"/>
            </a:gs>
            <a:gs pos="50000">
              <a:srgbClr val="ff0000"/>
            </a:gs>
            <a:gs pos="100000">
              <a:srgbClr val="75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533520" y="380880"/>
            <a:ext cx="8001000" cy="609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buSzPct val="1028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微软雅黑"/>
              </a:rPr>
              <a:t>张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行易软件 http://www.ExeSoft.cn</cp:lastModifiedBy>
  <dcterms:modified xsi:type="dcterms:W3CDTF">2017-01-09T13:01:43Z</dcterms:modified>
  <cp:revision>2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