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  <p:custShowLst>
    <p:custShow name="cjZhu" id="0">
      <p:sldLst>
        <p:sld r:id="rId5"/>
      </p:sldLst>
    </p:custShow>
    <p:custShow name="cjJX1" id="1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DB9C-01FA-4916-9BE8-23BBAFF5EF0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F9A5-4E77-43A6-B91F-CA3F5AD7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7A66-D237-4A31-8956-7C649360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A18-D875-4622-B9C7-500CD519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0AD8-9857-40CE-9D59-4B9F2591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E161-25D9-4915-B3D6-26EA172E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376F-6375-49F1-B144-965C9C16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9094-FE4D-4E02-B354-AAF04A88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6E4-0F14-43B7-917B-CF15036B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870B-2839-497A-A82F-020A2434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5976-BB8D-4D77-8AD2-18861FC1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A251-C239-45A8-92C7-62089A4A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132B-1C0B-4BF5-A937-0320CA9B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3D96-6449-4ABC-9818-DDBA081B41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八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九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2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十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2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1905120"/>
            <a:ext cx="7696080" cy="3276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抽奖准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一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2920" y="380880"/>
            <a:ext cx="1600200" cy="10670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flipH="1" rot="21533400">
            <a:off x="0" y="4648320"/>
            <a:ext cx="2133720" cy="712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1481E-006 L 0.75833 -0.65555 E">
                                      <p:cBhvr>
                                        <p:cTn id="9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二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1904760" cy="1752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三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77120" y="3962520"/>
            <a:ext cx="2400120" cy="1790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四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2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五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六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七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2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6T04:24:55Z</dcterms:modified>
  <cp:revision>1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