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  <p:custShowLst>
    <p:custShow name="cjZhu" id="0">
      <p:sldLst>
        <p:sld r:id="rId5"/>
      </p:sldLst>
    </p:custShow>
    <p:custShow name="cjJX1" id="1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E3B0-6766-40BF-A0BE-15B479D3AF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37A-DB5B-4B91-B452-A53ACD9E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B5A7-D8B8-4092-842C-D3DF956B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5F72-0A23-4179-ACC3-5631F73C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344E-7E7B-4FF6-8815-42344856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711-94A9-4C0C-9C92-FED291F3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F107-AA05-4621-A76E-342B7518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3A1-4135-4DE2-B100-3B9240DD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78DA-4A90-42AA-B826-C60D6A28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BB37-FBB2-44C7-88E7-C2B83CED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5C9-3CDD-4E88-A47B-2EBB832C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C00-8978-4144-8331-E2087E43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F62-AFA0-43E1-A5F3-B596A7F3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5243-699F-489E-8A33-228AC5D30E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八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九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十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905120"/>
            <a:ext cx="7696080" cy="3276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抽奖准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一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二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三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四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五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六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七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4:51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