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Zdy1" id="0">
      <p:sldLst>
        <p:sld r:id="rId4"/>
        <p:sld r:id="rId5"/>
      </p:sldLst>
    </p:custShow>
    <p:custShow name="Zdy2" id="1">
      <p:sldLst>
        <p:sld r:id="rId6"/>
        <p:sld r:id="rId7"/>
      </p:sldLst>
    </p:custShow>
    <p:custShow name="Zdy3" id="2">
      <p:sldLst>
        <p:sld r:id="rId8"/>
        <p:sld r:id="rId9"/>
      </p:sldLst>
    </p:custShow>
    <p:custShow name="Zdy4" id="3">
      <p:sldLst>
        <p:sld r:id="rId10"/>
        <p:sld r:id="rId11"/>
      </p:sldLst>
    </p:custShow>
    <p:custShow name="Zdy5" id="4">
      <p:sldLst>
        <p:sld r:id="rId12"/>
        <p:sld r:id="rId13"/>
      </p:sldLst>
    </p:custShow>
    <p:custShow name="Zdy6" id="5">
      <p:sldLst>
        <p:sld r:id="rId14"/>
        <p:sld r:id="rId15"/>
      </p:sldLst>
    </p:custShow>
    <p:custShow name="Zdy7" id="6">
      <p:sldLst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314-3DC0-464E-8BF6-52E7293C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8CF-851A-4BAC-A5CE-58BECF80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860-7339-4EFB-B102-71E7DE2E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D6E-1787-4D39-8F52-1B77E256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FBF-C6E6-4EC6-BC74-268F57D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943-C849-41AF-988D-CF5C3869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3C4-3799-4BFA-A990-1279720B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61E-2381-4A4C-AC27-EB642C9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551-5F72-4913-BB75-BCCD777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ACF-0867-4AFB-AD93-255782F4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6FF-8163-48C9-9B92-2455C6C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B5B-2049-49AD-A6D2-6FEBE29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A0F-103D-45F1-8AB9-361C25A48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28T09:53:5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