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B4C3-120B-4437-827E-16848AF788F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B39-BC25-47AA-BCB9-EF4858A5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8A6-B8C8-45BC-818F-6EC8E3FD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F82-E82E-44C4-AA6B-B0B6883E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ACE-0F60-48F2-B20B-71164CC2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F3A-17B2-4A2D-B8A2-ECA8CC82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C27-D11A-4576-BC10-BB604CD6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1B9-0629-4C60-9602-7A206EC9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6E2-4FED-4B13-B5F2-CCC86ADF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875-D2C7-483C-8346-9A3E59C1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854-B63C-410F-A7B6-E00228E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F74-EED6-48C2-9C27-50007C8E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96D-8D00-4A03-BB05-B42B256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C03B-1AE5-452F-8F0C-1BA9FC5854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特等奖 海南双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530400">
            <a:off x="1080" y="867960"/>
            <a:ext cx="3048120" cy="112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780960" y="533520"/>
            <a:ext cx="20574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flipH="1" rot="21531600">
            <a:off x="7086240" y="304560"/>
            <a:ext cx="167652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5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