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4DB6-A40F-41A3-A070-C7DEED208E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43C-2555-4625-A871-3720A9DE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EDF-E65B-44EC-9E8B-D252F2D2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D28-8989-4BE9-BFD6-9E4B50E3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4BB-4C55-4238-91B5-EED05858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AB5-004E-4E5F-979D-5EF23407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790-E12B-4256-A1DF-7814ED5D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1694-A0B7-4901-8945-0E54F81F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DA5-B111-4BE0-8457-74514D4B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08C-5159-4F63-AD8A-1D354EFC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BEC-F998-4D8F-BE09-041ECF63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4EA-9DE3-4066-A706-E481E995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4891-C43B-4C91-9738-0D0B267B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A240-1A1A-49DA-8E99-9BD8BB73E5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2920" y="380880"/>
            <a:ext cx="1600200" cy="1067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flipH="1" rot="21533400">
            <a:off x="0" y="4648320"/>
            <a:ext cx="2133720" cy="712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0.75833 -0.65555 E">
                                      <p:cBhvr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1904760" cy="1752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2400120" cy="179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6T04:24:55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