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  <p:custShowLst>
    <p:custShow name="cjZhu" id="0">
      <p:sldLst>
        <p:sld r:id="rId5"/>
      </p:sldLst>
    </p:custShow>
    <p:custShow name="cjJX1" id="1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C3D7-FE98-40B0-A8E9-789A923E501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3E5E-D008-46FE-8A17-E8488FD1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C9B8-6E9A-4234-BC6D-880692A9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00C-C604-4958-8BD4-21270725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A7D-9682-4BBA-9B7E-137B91A7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19D-9860-4487-BF68-0BE9411A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E56-788E-439B-BDAB-7DF7D9FB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94B1-A1B6-416F-8351-294A51D2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3242-F460-43C0-943C-9961F889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191-22DA-4CA6-94D9-7B1C3E4C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BAC6-F696-4551-BFA4-82039036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1E49-18EE-459D-B249-4827A368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36D2-BB11-48F4-9ACD-3EFAE3CF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5565-C0B0-4AD0-8AA1-92AA7AF1C2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八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九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十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905120"/>
            <a:ext cx="7696080" cy="3276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抽奖准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一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二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三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四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五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六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七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4:51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