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8DEF-C653-4788-8CBA-721E68ABA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F3D7-C2E2-4ED9-B5DD-6140B248B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0FBF-C70E-4B7D-B168-453D14C72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F844-800E-4C98-9744-6A4ACE84E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2E3B-0972-418E-9A8F-2BDEC061D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25A1-57E8-4392-9FBA-DC12648D7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548F-7B96-4211-BC29-382D7F2C9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C311-94BA-4B44-80CB-F023E3A55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7C6F-D44E-4A7A-9A90-F458BB105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90C6-C607-48E2-AC9E-28310BF94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4A6D-FC99-4ED6-83BB-F56DECE5E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BC04-12FB-4D83-8FD7-60A480191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A3308-81A5-4F36-B699-41B7B15C0B4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1600200"/>
            <a:ext cx="7924680" cy="388620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ffff"/>
                </a:solidFill>
                <a:latin typeface="Arial"/>
                <a:ea typeface="微软雅黑"/>
              </a:rPr>
              <a:t>九等奖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ffff"/>
                </a:solidFill>
                <a:latin typeface="Arial"/>
                <a:ea typeface="微软雅黑"/>
              </a:rPr>
              <a:t>中奖名单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533520" y="380880"/>
            <a:ext cx="8001000" cy="60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张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行易软件 http://www.ExeSoft.cn</cp:lastModifiedBy>
  <dcterms:modified xsi:type="dcterms:W3CDTF">2017-01-09T13:01:43Z</dcterms:modified>
  <cp:revision>2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