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7569-8D3D-47A5-A57A-E7B5EDFA8FC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号节目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舞蹈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美好的日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表演者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合同部员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号节目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小品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银行的一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表演者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张三、李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抽奖环节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二等奖 </a:t>
            </a: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38</a:t>
            </a: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号节目</a:t>
            </a: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吃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抽奖环节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一等奖  </a:t>
            </a: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节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相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演者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张大为、王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A329-8B5A-4F22-B75E-8C3020971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E046-294F-49E5-A100-8BA90BD6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EBDE-6367-41E2-A471-7DDFF2E2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CB9B-77A2-4034-A14C-A290AEE55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5131-661D-4BD1-88D7-191D40BE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BECE-113E-4A7F-A998-664BD564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7058-01DF-4E53-8203-8DD5C68A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14AF-49A6-40B6-9ED7-3A6E7329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E8DB-97E2-458F-95B4-D058A41C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E0A7-8E3B-42CC-B1D4-BF0CBAF0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5D2C-3BDE-4F02-AE8A-9D3D9E2F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12FE-538F-4646-A62D-ADA1EF0A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7911-6A22-4D48-B56E-3409AEB8CC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421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358128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0" y="1981080"/>
            <a:ext cx="9144000" cy="2819520"/>
            <a:chOff x="0" y="1981080"/>
            <a:chExt cx="9144000" cy="2819520"/>
          </a:xfrm>
        </p:grpSpPr>
        <p:sp>
          <p:nvSpPr>
            <p:cNvPr id="50" name=""/>
            <p:cNvSpPr/>
            <p:nvPr/>
          </p:nvSpPr>
          <p:spPr>
            <a:xfrm>
              <a:off x="0" y="1981080"/>
              <a:ext cx="9144000" cy="2819520"/>
            </a:xfrm>
            <a:prstGeom prst="rect">
              <a:avLst/>
            </a:prstGeom>
            <a:solidFill>
              <a:srgbClr val="ffff00">
                <a:alpha val="8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中国银行</a:t>
              </a:r>
              <a:r>
                <a:rPr b="0" lang="zh-CN" sz="4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012</a:t>
              </a:r>
              <a:r>
                <a:rPr b="0" lang="zh-CN" sz="4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新年综艺晚会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(</a:t>
              </a:r>
              <a:r>
                <a:rPr b="0" lang="zh-CN" sz="4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暨</a:t>
              </a:r>
              <a:r>
                <a:rPr b="0" lang="zh-CN" sz="4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:</a:t>
              </a:r>
              <a:r>
                <a:rPr b="0" lang="zh-CN" sz="4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幸运大抽奖</a:t>
              </a:r>
              <a:r>
                <a:rPr b="0" lang="zh-CN" sz="4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)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2">
              <a:alphaModFix amt="80000"/>
            </a:blip>
            <a:stretch/>
          </p:blipFill>
          <p:spPr>
            <a:xfrm>
              <a:off x="152280" y="2095560"/>
              <a:ext cx="1447920" cy="83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421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3581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981080"/>
            <a:ext cx="9144000" cy="2819520"/>
          </a:xfrm>
          <a:prstGeom prst="rect">
            <a:avLst/>
          </a:prstGeom>
          <a:solidFill>
            <a:srgbClr val="ffff00">
              <a:alpha val="8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舞蹈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美好的日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表演者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合同部员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421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3581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1981080"/>
            <a:ext cx="9144000" cy="2819520"/>
          </a:xfrm>
          <a:prstGeom prst="rect">
            <a:avLst/>
          </a:prstGeom>
          <a:solidFill>
            <a:srgbClr val="ffff00">
              <a:alpha val="8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小品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银行的一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表演者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张三、李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421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3581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981080"/>
            <a:ext cx="9144000" cy="3276720"/>
          </a:xfrm>
          <a:prstGeom prst="rect">
            <a:avLst/>
          </a:prstGeom>
          <a:solidFill>
            <a:srgbClr val="ffff00">
              <a:alpha val="8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抽奖环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      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二等奖 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38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开奖嘉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	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	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员工代表 王正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421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3581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1981080"/>
            <a:ext cx="9144000" cy="2819520"/>
          </a:xfrm>
          <a:prstGeom prst="rect">
            <a:avLst/>
          </a:prstGeom>
          <a:solidFill>
            <a:srgbClr val="ffff00">
              <a:alpha val="8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哑剧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吃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表演者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王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421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3581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1981080"/>
            <a:ext cx="9144000" cy="3276720"/>
          </a:xfrm>
          <a:prstGeom prst="rect">
            <a:avLst/>
          </a:prstGeom>
          <a:solidFill>
            <a:srgbClr val="ffff00">
              <a:alpha val="8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抽奖环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      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一等奖 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开奖嘉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	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	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客户代表 李玉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421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3581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1981080"/>
            <a:ext cx="9144000" cy="2819520"/>
          </a:xfrm>
          <a:prstGeom prst="rect">
            <a:avLst/>
          </a:prstGeom>
          <a:solidFill>
            <a:srgbClr val="ffff00">
              <a:alpha val="8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4.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相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表演者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张大为、王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7T00:53:44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