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2674-8909-4C02-A49D-26B35F3629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2A2-87C5-4612-A4D7-C353DC2F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AFC-9206-4B89-B1DB-AE63E691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6D2-C1F9-41C4-AC13-DE2495CA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1CD-0A4E-4115-9929-E15B69E5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E1C-9A5B-4A07-9EAB-2D3DAF92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7B0-B672-478D-B409-445B1D47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67E-4E05-4F6E-B3A8-5C06360A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E20-7C2A-4ADA-BCE9-5BAE3D60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CA9-7E30-4065-BED1-5FCA77FF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870-006E-4C39-8EFD-949F0399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7F2-3E32-4D8A-9979-60059DD9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5AA-E124-459A-AA1F-1F250E67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0595-DCBF-4E73-96CD-BBEC92874C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blipFill rotWithShape="0">
            <a:blip r:embed="rId1"/>
            <a:srcRect/>
            <a:stretch/>
          </a:blip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微软雅黑"/>
              </a:rPr>
              <a:t>特等奖 海南双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微软雅黑"/>
              </a:rPr>
              <a:t>中奖名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1530400">
            <a:off x="1080" y="867960"/>
            <a:ext cx="3048120" cy="112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780960" y="533520"/>
            <a:ext cx="205740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flipH="1" rot="21531600">
            <a:off x="7086240" y="304560"/>
            <a:ext cx="167652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18:52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