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21095-C8E9-4A82-B866-09799EBD8BB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空白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A4EA-49FB-4E80-B19F-6AE57DAAC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94DC-EBF7-4C7E-8D2F-7A81F2254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F551-4DAB-4BE8-8994-5AE52B30E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20C1-7E56-4C91-940F-DD9B0F1C6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CB06-6F23-4071-A6C7-582CD61BC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8902-ED38-4CDD-BD6D-69E34D071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843B-19C1-40C7-9C7E-E4E0D2438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1D16-C8EC-49A8-8B03-EA10014E6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BF84-F6C2-47D9-83DF-B60887E00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E61E-0E2D-4CA8-81F8-C02D00EDD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652A-475D-44B2-8918-95B4D9705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B2FB-3FF7-4FFF-9EC2-2BBBD027F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0000"/>
            </a:gs>
            <a:gs pos="50000">
              <a:srgbClr val="ff0000"/>
            </a:gs>
            <a:gs pos="100000">
              <a:srgbClr val="e2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4E696-8462-4686-BC00-B6FDF7581AC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0000"/>
            </a:gs>
            <a:gs pos="50000">
              <a:srgbClr val="ff0000"/>
            </a:gs>
            <a:gs pos="100000">
              <a:srgbClr val="e2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1600200"/>
            <a:ext cx="7924680" cy="388620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Arial"/>
                <a:ea typeface="微软雅黑"/>
              </a:rPr>
              <a:t>六等奖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Arial"/>
                <a:ea typeface="微软雅黑"/>
              </a:rPr>
              <a:t>中奖名单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0000"/>
            </a:gs>
            <a:gs pos="50000">
              <a:srgbClr val="ff0000"/>
            </a:gs>
            <a:gs pos="100000">
              <a:srgbClr val="e2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380880"/>
            <a:ext cx="8001000" cy="60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0" rIns="90000" tIns="46800" bIns="46800" anchor="t">
            <a:noAutofit/>
          </a:bodyPr>
          <a:p>
            <a:pPr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张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行易软件 http://www.ExeSoft.cn</cp:lastModifiedBy>
  <dcterms:modified xsi:type="dcterms:W3CDTF">2017-01-09T12:59:46Z</dcterms:modified>
  <cp:revision>3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