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DE77-770C-4EBA-A182-785B73D213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0A9-9276-4EEA-8803-F9E405CE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EE0-DBFD-4D2D-8B2F-C2F27F50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C17-BDF8-42C5-8D5B-2DD58A5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E96-074F-4EA3-9325-91BED39F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963-FEBA-4F76-967F-1027873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E6-9C02-49FE-A8A9-5064748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DE8-2488-41B7-AB10-203A0CEB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10F-0666-4077-A3A1-5B07C7F2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C25-4611-4852-B064-136AA4D3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3E8-48B9-411B-9C27-BD9AB168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861-A356-4575-997D-399E6CC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7AA-F084-4768-ADF2-1393B64E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6510-4EFF-4E13-8406-8B0EE00BE0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2920" y="380880"/>
            <a:ext cx="1600200" cy="1067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21533400">
            <a:off x="0" y="4648320"/>
            <a:ext cx="2133720" cy="71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75833 -0.65555 E">
                                      <p:cBhvr>
                                        <p:cTn id="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190476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40012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6T04:24:55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