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ABEAB-FB18-41A3-9DF2-A13612E10E1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24AB-0AEE-4B1D-92F4-8E6A3FA06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FFF7-4F47-453A-A96F-2D8232EF9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7578-499C-4EF3-885B-D3144BE5D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0C71-CC0A-41A8-BD19-D2025030B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6B38-F429-40AD-9DC0-BEB9AE2DC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1764-F41F-4C2E-86CD-3D207079E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346C-1536-42AD-8260-AD63EDCB9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EF56-E5E1-4A4F-BCE6-D7C831751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BBD6-5EB6-473F-B046-5B206A90C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FC36-36A1-4E99-B817-AACA74CD9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194F-BD23-41FA-9FD6-9A3C0B8D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2A42-75CB-4FA3-82F4-97C42E80B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0000"/>
            </a:gs>
            <a:gs pos="50000">
              <a:srgbClr val="ff0000"/>
            </a:gs>
            <a:gs pos="100000">
              <a:srgbClr val="d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57125-785F-4B88-81BF-1CDBD6A684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0000"/>
            </a:gs>
            <a:gs pos="50000">
              <a:srgbClr val="ff0000"/>
            </a:gs>
            <a:gs pos="100000">
              <a:srgbClr val="d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七等奖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0000"/>
            </a:gs>
            <a:gs pos="50000">
              <a:srgbClr val="ff0000"/>
            </a:gs>
            <a:gs pos="100000">
              <a:srgbClr val="d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李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3:00:23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