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7BF6-DAA4-438E-822A-08C9BEB078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空白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542-729E-4B5A-89F4-A80359C5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563F-1D2D-4C9B-B6A4-A1963D1F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F76-5840-499B-B008-4C88CF5B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39B-E7A1-49E7-B6CC-94DFECBE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9CB-F8F8-42AE-BDBF-C325649A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D32-922C-41F4-B499-DBA80493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79F-7EAE-42EB-BEC4-04B98844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1A1E-95AF-4011-B4D9-30F5F2C4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A13-DFDA-4B98-A537-39ABDC18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76B-E59B-425F-B3C2-1834FCC2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EF8-EB7D-4299-A9EE-745274E5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FC1-4D0A-4CEA-9EB0-250D61BA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26CD-BC2D-497D-9A8C-2F15B8FF0A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00200"/>
            <a:ext cx="7924680" cy="38862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一等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中奖名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0000"/>
            </a:gs>
            <a:gs pos="50000">
              <a:srgbClr val="ff0000"/>
            </a:gs>
            <a:gs pos="100000">
              <a:srgbClr val="c9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80880"/>
            <a:ext cx="8001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张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7-01-09T12:56:11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