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BAB-28A1-4A23-A605-5E2DB966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786-94F6-4A26-A696-6027103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92E-F05F-495A-8AFE-C8B2CF22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B45-55EB-4A3C-B1F0-C934486D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EB-A031-422A-94AE-E3D9B9B2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C51-9921-4F26-B7FB-14DC811F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283-9C10-4A79-999F-AA2E908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80-C3D4-43CA-A209-F0D5E889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12E-9F80-4D70-8BF6-24DD9CD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8E3-9B27-43AA-9731-5763988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89D-F471-4022-8FCE-493A32D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D69-0586-413D-A06B-1BCC38B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5B40-1E4B-4C2F-BDF9-01E1B45709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十等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00"/>
            </a:gs>
            <a:gs pos="50000">
              <a:srgbClr val="ff0000"/>
            </a:gs>
            <a:gs pos="100000">
              <a:srgbClr val="75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3:02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