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575F1-602F-4768-874E-D2F0D560777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FE7B-CC32-45EC-9552-72A79B650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3094-D50D-449A-BB15-DB4F29570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8261-92B4-4CDE-85BB-E92DD95FD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F4BC-7EE4-4CAF-8057-6938A6093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649D-F48D-4E63-AEFD-4AE058139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D541-2621-4F7F-88A1-A17A27E65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52DC-E5A6-4DF9-A9BB-C08100EBA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884E-FB57-42A8-BC6A-FD479100A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26E9-67D6-4DD1-9286-0704EF491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8E49-0F18-4C9C-A623-AD34C40BC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45B6-AAB5-4694-8C9E-E0698D1B4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4EB5-7278-4883-A97B-170A89A6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0000"/>
            </a:gs>
            <a:gs pos="50000">
              <a:srgbClr val="ff0000"/>
            </a:gs>
            <a:gs pos="100000">
              <a:srgbClr val="d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43701-9E09-4845-B9EB-4DBEABCDD8A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0000"/>
            </a:gs>
            <a:gs pos="50000">
              <a:srgbClr val="ff0000"/>
            </a:gs>
            <a:gs pos="100000">
              <a:srgbClr val="d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三等奖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0000"/>
            </a:gs>
            <a:gs pos="50000">
              <a:srgbClr val="ff0000"/>
            </a:gs>
            <a:gs pos="100000">
              <a:srgbClr val="d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王麻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2:57:30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