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9B0-B5D0-47D0-A253-165CAFBF53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66F-09B6-4868-86BD-B9EC77CB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51B-07BD-4E9A-8CB2-328C9BB1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00D-A466-476B-8708-16603872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93E-E39F-4421-B63E-44241D4D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657-C25B-4508-87ED-8149C598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D0E-FF36-4DD4-ACD7-F1DF96E5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23A-AC14-465F-882D-DD1CD09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B9D-9FB3-4696-9BF4-66185FDF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D17-D0CB-4B6E-B7F9-13DE52A0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CEE-3DE2-4DE6-87F5-047C3593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DCF-808D-4AF6-A1BE-65FE6C7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33A-3C5E-4A36-AD7A-688EAAD8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00C6-60E7-4847-B9B6-B6A750ECDC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0000"/>
            </a:gs>
            <a:gs pos="50000">
              <a:srgbClr val="ff0000"/>
            </a:gs>
            <a:gs pos="100000">
              <a:srgbClr val="e2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8:3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