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cjZhu" id="0">
      <p:sldLst>
        <p:sld r:id="rId5"/>
      </p:sldLst>
    </p:custShow>
    <p:custShow name="cjJX1" id="1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82A8-72B4-4CF4-96A4-8F1459556F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127-D4BB-4F68-8CF2-33641618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EE97-5FC7-4376-9C20-94AC60D2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C897-2FF9-49CA-AC9D-D3E903A3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142-E62C-4A4B-BCDF-4C720AFB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06F-E4E3-44A2-8140-572715C4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46A6-9A0C-463A-B84E-D3ACCEED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49F-E305-4622-9EDF-D96D502B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DC98-5AFF-44B5-84E5-BCA5C1F4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280-8EDD-4152-B2AB-F0E5D48B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1A6B-F8BA-4452-8D04-A6079B5E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DD9-DC4F-4D00-AD65-988C2A4E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F44-AAC2-4BBF-AA3D-BD57B31F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CE4B-5ED1-4A59-9FBB-EA7F8925AE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八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九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十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05120"/>
            <a:ext cx="7696080" cy="3276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抽奖准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一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二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三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四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五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六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0000"/>
            </a:gs>
            <a:gs pos="50000">
              <a:srgbClr val="ff0000"/>
            </a:gs>
            <a:gs pos="100000">
              <a:srgbClr val="d1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923080"/>
            <a:ext cx="9144000" cy="9349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微软雅黑"/>
              </a:rPr>
              <a:t>七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02-27T00:44:51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