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1C3A-CD2E-40B8-86FC-6C239A91B46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号节目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舞蹈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美好的日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表演者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合同部员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号节目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小品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银行的一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表演者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张三、李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抽奖环节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二等奖 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38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号节目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吃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抽奖环节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一等奖  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节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演者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张大为、王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182-F60A-4788-BC66-C4A7536E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715-D04E-4EBF-BC2C-CD01D123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71A-0379-4C80-94AF-711C4BB9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820-BADA-4E75-A18E-25538920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FFB-3AFB-4F1B-9DE0-31D7FFCE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F2C-7861-4619-BF07-870DC8D8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887-72FA-43A5-9BBA-41BF903D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10C-B616-42DB-A8D6-B9A95BFC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B7C-1095-4A18-B426-4132AD0B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EE2-A1DB-466C-9FDC-6B70684A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C71-8DDD-4A24-8A49-3CADA16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9D6-1559-4BF1-896C-05B4E6EC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4414-DA53-4028-A661-86657F4327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1981080"/>
            <a:ext cx="9144000" cy="2819520"/>
            <a:chOff x="0" y="1981080"/>
            <a:chExt cx="9144000" cy="2819520"/>
          </a:xfrm>
        </p:grpSpPr>
        <p:sp>
          <p:nvSpPr>
            <p:cNvPr id="50" name=""/>
            <p:cNvSpPr/>
            <p:nvPr/>
          </p:nvSpPr>
          <p:spPr>
            <a:xfrm>
              <a:off x="0" y="1981080"/>
              <a:ext cx="9144000" cy="2819520"/>
            </a:xfrm>
            <a:prstGeom prst="rect">
              <a:avLst/>
            </a:prstGeom>
            <a:solidFill>
              <a:srgbClr val="ffff00">
                <a:alpha val="8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中国银行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012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新年综艺晚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暨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幸运大抽奖</a:t>
              </a:r>
              <a:r>
                <a:rPr b="0" lang="zh-CN" sz="4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>
              <a:alphaModFix amt="80000"/>
            </a:blip>
            <a:stretch/>
          </p:blipFill>
          <p:spPr>
            <a:xfrm>
              <a:off x="152280" y="2095560"/>
              <a:ext cx="144792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舞蹈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美好的日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表演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合同部员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小品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银行的一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表演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张三、李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981080"/>
            <a:ext cx="9144000" cy="32767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抽奖环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二等奖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8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开奖嘉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员工代表 王正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哑剧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吃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表演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王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981080"/>
            <a:ext cx="9144000" cy="32767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抽奖环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等奖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开奖嘉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客户代表 李玉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421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981080"/>
            <a:ext cx="9144000" cy="2819520"/>
          </a:xfrm>
          <a:prstGeom prst="rect">
            <a:avLst/>
          </a:prstGeom>
          <a:solidFill>
            <a:srgbClr val="ffff00">
              <a:alpha val="8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相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表演者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张大为、王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53:4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